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943-0C94-4632-AA97-7A903849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B7B-9D0A-4EF0-8C69-88AE123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9F6-694C-4645-8F5B-7B35C920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427-4911-4FF4-8662-81A7A0B1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23E2-7042-4A2E-A698-AD5E4D4D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B238-4AFB-4F25-BF79-27D33DB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E71B-FB5C-4FDE-A504-6E72D5A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8137-8967-4601-8226-15DAB30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8AB4-3E8C-4608-B233-6B9016F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90D-4235-4ADA-9D99-05F381A5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B242-4644-411D-8AB2-51E8707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031-88B8-4F49-9573-74F30E3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B0E-3B4E-4C07-AFBC-1BA0F78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F9E-3DF3-44BE-AB7C-B7763D0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4712-71A0-460A-97DE-F15862D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889-41D6-4249-AAAE-454F444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A25-82E8-4566-9DDC-D55E7E51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CC-556C-4450-89A7-D98CB30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906-07BB-444E-B142-FC0D491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E49-3923-4D1F-8D7A-117FBFE4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580-600C-4F82-A06A-35E7B140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4AA-874E-48CC-A6FE-8CC655C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2D8-46E0-473F-8B6E-5419B39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E21-CE4A-4ECE-9634-D740DAB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DD5F-133D-43E6-8514-AD17727E0E2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DA92-F83A-4123-B5E6-399865FCBB9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memorial can you see in Trafalgar Square in London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163920" y="525780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70360" y="5638320"/>
            <a:ext cx="68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tatue of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admiral Nel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2483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8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